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A2CC-2DE6-4C5E-850F-8D2235644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one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Stone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Stone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184D-9670-4E72-BD28-354CCF095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one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Stone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Stone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Stone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Stone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29E8-C0A1-4C0F-8D2F-5A6405A1C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one 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Stone 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Stone 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Stone 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Stone San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Stone San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Stone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ADBA-660C-4866-9CDB-1C4BB524F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one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200"/>
              </a:lnSpc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Stone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B430-EDDB-4529-BCB5-54BB4BCE6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one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Stone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75AE-BF63-4BB5-B6E1-5894FF127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one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Stone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Stone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5DC0-B74C-41DB-BBBC-5B2387BA1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one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9F56-8162-4712-AAA5-F7A06AD2C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2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Stone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5319-8357-40B7-981C-9127E33B5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one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Stone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Stone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Stone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34B0-2190-4342-8395-118ED762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one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Stone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Stone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Stone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3374-A6DB-4A99-97A1-A467143E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Stone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Stone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Stone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Stone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2E12-7A79-4BC5-B0CB-D5DCE8FD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2d8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tone San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Stone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ts val="22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tone San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Stone Sans"/>
            </a:endParaRPr>
          </a:p>
          <a:p>
            <a:pPr lvl="1" marL="171360">
              <a:lnSpc>
                <a:spcPts val="2200"/>
              </a:lnSpc>
              <a:spcBef>
                <a:spcPts val="3300"/>
              </a:spcBef>
              <a:buClr>
                <a:srgbClr val="ffffff"/>
              </a:buClr>
              <a:buFont typeface="Stone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tone San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Stone Sans"/>
            </a:endParaRPr>
          </a:p>
          <a:p>
            <a:pPr lvl="2" marL="342720">
              <a:lnSpc>
                <a:spcPts val="2200"/>
              </a:lnSpc>
              <a:spcBef>
                <a:spcPts val="3300"/>
              </a:spcBef>
              <a:buClr>
                <a:srgbClr val="ffffff"/>
              </a:buClr>
              <a:buFont typeface="Stone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tone San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Stone Sans"/>
            </a:endParaRPr>
          </a:p>
          <a:p>
            <a:pPr lvl="3" marL="1440000" indent="-205560">
              <a:lnSpc>
                <a:spcPts val="2200"/>
              </a:lnSpc>
              <a:spcBef>
                <a:spcPts val="3300"/>
              </a:spcBef>
              <a:buClr>
                <a:srgbClr val="ffffff"/>
              </a:buClr>
              <a:buFont typeface="Stone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tone San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Stone Sans"/>
            </a:endParaRPr>
          </a:p>
          <a:p>
            <a:pPr lvl="4" marL="1851480" indent="-205560">
              <a:lnSpc>
                <a:spcPts val="2200"/>
              </a:lnSpc>
              <a:spcBef>
                <a:spcPts val="3300"/>
              </a:spcBef>
              <a:buClr>
                <a:srgbClr val="ffffff"/>
              </a:buClr>
              <a:buFont typeface="Stone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tone San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Stone Sans"/>
            </a:endParaRPr>
          </a:p>
          <a:p>
            <a:pPr lvl="5" marL="1851480" indent="-205560">
              <a:lnSpc>
                <a:spcPts val="2200"/>
              </a:lnSpc>
              <a:spcBef>
                <a:spcPts val="3300"/>
              </a:spcBef>
              <a:buClr>
                <a:srgbClr val="000000"/>
              </a:buClr>
              <a:buFont typeface="Stone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tone San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Stone Sans"/>
            </a:endParaRPr>
          </a:p>
          <a:p>
            <a:pPr lvl="6" marL="1851480" indent="-205560">
              <a:lnSpc>
                <a:spcPts val="2200"/>
              </a:lnSpc>
              <a:spcBef>
                <a:spcPts val="3300"/>
              </a:spcBef>
              <a:buClr>
                <a:srgbClr val="000000"/>
              </a:buClr>
              <a:buFont typeface="Stone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tone San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Stone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Stone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tone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Stone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tone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Stone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F0F50-C54C-462A-AC9C-CB42173EB4FD}" type="slidenum">
              <a:rPr b="0" lang="en-US" sz="1400" spc="-1" strike="noStrike">
                <a:solidFill>
                  <a:srgbClr val="ffffff"/>
                </a:solidFill>
                <a:latin typeface="Stone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219320"/>
            <a:ext cx="769608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Operis%20Postcard%20Tiff%208%20%20%20%2017.5cm" descr=""/>
          <p:cNvPicPr/>
          <p:nvPr/>
        </p:nvPicPr>
        <p:blipFill>
          <a:blip r:embed="rId2"/>
          <a:stretch/>
        </p:blipFill>
        <p:spPr>
          <a:xfrm>
            <a:off x="8077320" y="304920"/>
            <a:ext cx="787320" cy="51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5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d2d8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Operis%20Postcard%20Tiff%208%20%20%20%2017.5cm" descr=""/>
          <p:cNvPicPr/>
          <p:nvPr/>
        </p:nvPicPr>
        <p:blipFill>
          <a:blip r:embed="rId1"/>
          <a:stretch/>
        </p:blipFill>
        <p:spPr>
          <a:xfrm>
            <a:off x="141120" y="93600"/>
            <a:ext cx="8859960" cy="5773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140560" y="5016600"/>
            <a:ext cx="484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Stone Sans"/>
              </a:rPr>
              <a:t>SPREADSHEET GOOD PRACTICE: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Stone Sans"/>
              </a:rPr>
              <a:t>IS THERE ANY SUCH TH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3352680"/>
            <a:ext cx="8077320" cy="1067040"/>
          </a:xfrm>
          <a:prstGeom prst="rect">
            <a:avLst/>
          </a:prstGeom>
          <a:solidFill>
            <a:srgbClr val="2d2d8b"/>
          </a:solidFill>
          <a:ln w="9360">
            <a:solidFill>
              <a:srgbClr val="2d2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Stone Sans"/>
              </a:rPr>
              <a:t>David Col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Stone Sans"/>
              </a:rPr>
              <a:t>Eusprig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01FA-9355-4DE5-9371-9010225A1EB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2d8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Stone Sans"/>
              </a:rPr>
              <a:t>SCENARIO MANAGEMENT</a:t>
            </a:r>
            <a:endParaRPr b="0" lang="en-US" sz="4400" spc="-1" strike="noStrike">
              <a:solidFill>
                <a:srgbClr val="ffffff"/>
              </a:solidFill>
              <a:latin typeface="Stone Sans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1676520"/>
            <a:ext cx="3962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ts val="2200"/>
              </a:lnSpc>
              <a:spcBef>
                <a:spcPts val="3300"/>
              </a:spcBef>
              <a:tabLst>
                <a:tab algn="l" pos="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ONE WORKBOOK PER SCEN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Bef>
                <a:spcPts val="3300"/>
              </a:spcBef>
              <a:tabLst>
                <a:tab algn="l" pos="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800600" y="1676520"/>
            <a:ext cx="3962520" cy="4564440"/>
            <a:chOff x="4800600" y="1676520"/>
            <a:chExt cx="3962520" cy="4564440"/>
          </a:xfrm>
        </p:grpSpPr>
        <p:sp>
          <p:nvSpPr>
            <p:cNvPr id="120" name=""/>
            <p:cNvSpPr/>
            <p:nvPr/>
          </p:nvSpPr>
          <p:spPr>
            <a:xfrm>
              <a:off x="6477120" y="5537160"/>
              <a:ext cx="1371600" cy="703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Stone Sans"/>
                </a:rPr>
                <a:t>Output: et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324480" y="5181480"/>
              <a:ext cx="1371600" cy="703800"/>
            </a:xfrm>
            <a:prstGeom prst="rect">
              <a:avLst/>
            </a:prstGeom>
            <a:solidFill>
              <a:srgbClr val="2d2d8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Stone Sans"/>
                </a:rPr>
                <a:t>Output: Cash flo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19920" y="3505320"/>
              <a:ext cx="137160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Stone Sans"/>
                </a:rPr>
                <a:t>Working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172200" y="4838760"/>
              <a:ext cx="1371600" cy="703800"/>
            </a:xfrm>
            <a:prstGeom prst="rect">
              <a:avLst/>
            </a:prstGeom>
            <a:solidFill>
              <a:srgbClr val="2d2d8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Stone Sans"/>
                </a:rPr>
                <a:t>Output: P&amp;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19920" y="4495680"/>
              <a:ext cx="1371600" cy="703800"/>
            </a:xfrm>
            <a:prstGeom prst="rect">
              <a:avLst/>
            </a:prstGeom>
            <a:solidFill>
              <a:srgbClr val="2d2d8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Stone Sans"/>
                </a:rPr>
                <a:t>Outputs: B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5" name=""/>
            <p:cNvCxnSpPr>
              <a:stCxn id="126" idx="2"/>
              <a:endCxn id="122" idx="0"/>
            </p:cNvCxnSpPr>
            <p:nvPr/>
          </p:nvCxnSpPr>
          <p:spPr>
            <a:xfrm>
              <a:off x="6705360" y="2920680"/>
              <a:ext cx="1080" cy="58500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27" name=""/>
            <p:cNvCxnSpPr>
              <a:stCxn id="122" idx="2"/>
              <a:endCxn id="124" idx="0"/>
            </p:cNvCxnSpPr>
            <p:nvPr/>
          </p:nvCxnSpPr>
          <p:spPr>
            <a:xfrm>
              <a:off x="6705360" y="3911760"/>
              <a:ext cx="1080" cy="5846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28" name=""/>
            <p:cNvSpPr/>
            <p:nvPr/>
          </p:nvSpPr>
          <p:spPr>
            <a:xfrm>
              <a:off x="4800600" y="1676520"/>
              <a:ext cx="3962520" cy="41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ts val="2200"/>
                </a:lnSpc>
                <a:spcBef>
                  <a:spcPts val="3300"/>
                </a:spcBef>
                <a:tabLst>
                  <a:tab algn="l" pos="0"/>
                  <a:tab algn="dec" pos="33400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Stone Sans"/>
                </a:rPr>
                <a:t>MULTIPLE INPUT SHEE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spcBef>
                  <a:spcPts val="3300"/>
                </a:spcBef>
                <a:tabLst>
                  <a:tab algn="l" pos="0"/>
                  <a:tab algn="dec" pos="33400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867280" y="2311560"/>
              <a:ext cx="1371600" cy="406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19920" y="2514600"/>
              <a:ext cx="1371600" cy="398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Stone Sans"/>
                </a:rPr>
                <a:t>Base c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838080" y="2717640"/>
            <a:ext cx="2590920" cy="1326240"/>
            <a:chOff x="838080" y="2717640"/>
            <a:chExt cx="2590920" cy="1326240"/>
          </a:xfrm>
        </p:grpSpPr>
        <p:sp>
          <p:nvSpPr>
            <p:cNvPr id="131" name=""/>
            <p:cNvSpPr/>
            <p:nvPr/>
          </p:nvSpPr>
          <p:spPr>
            <a:xfrm>
              <a:off x="838080" y="2717640"/>
              <a:ext cx="2590920" cy="1326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Stone Sans"/>
                </a:rPr>
                <a:t>Base c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38080" y="3581280"/>
              <a:ext cx="30492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38080" y="3352680"/>
              <a:ext cx="9907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1092240" y="3098880"/>
            <a:ext cx="2590920" cy="1326240"/>
            <a:chOff x="1092240" y="3098880"/>
            <a:chExt cx="2590920" cy="1326240"/>
          </a:xfrm>
        </p:grpSpPr>
        <p:sp>
          <p:nvSpPr>
            <p:cNvPr id="135" name=""/>
            <p:cNvSpPr/>
            <p:nvPr/>
          </p:nvSpPr>
          <p:spPr>
            <a:xfrm>
              <a:off x="1092240" y="3098880"/>
              <a:ext cx="2590920" cy="1326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Stone Sans"/>
                </a:rPr>
                <a:t>Low c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143000" y="3911760"/>
              <a:ext cx="30492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143000" y="3683160"/>
              <a:ext cx="9907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1346040" y="3479760"/>
            <a:ext cx="2590920" cy="1326240"/>
            <a:chOff x="1346040" y="3479760"/>
            <a:chExt cx="2590920" cy="1326240"/>
          </a:xfrm>
        </p:grpSpPr>
        <p:sp>
          <p:nvSpPr>
            <p:cNvPr id="139" name=""/>
            <p:cNvSpPr/>
            <p:nvPr/>
          </p:nvSpPr>
          <p:spPr>
            <a:xfrm>
              <a:off x="1346040" y="3479760"/>
              <a:ext cx="2590920" cy="1326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Stone Sans"/>
                </a:rPr>
                <a:t>High c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71600" y="4305240"/>
              <a:ext cx="30492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371600" y="4076640"/>
              <a:ext cx="9907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1600200" y="3860640"/>
            <a:ext cx="2590920" cy="1326240"/>
            <a:chOff x="1600200" y="3860640"/>
            <a:chExt cx="2590920" cy="1326240"/>
          </a:xfrm>
        </p:grpSpPr>
        <p:sp>
          <p:nvSpPr>
            <p:cNvPr id="143" name=""/>
            <p:cNvSpPr/>
            <p:nvPr/>
          </p:nvSpPr>
          <p:spPr>
            <a:xfrm>
              <a:off x="1600200" y="3860640"/>
              <a:ext cx="2590920" cy="1326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Stone Sans"/>
                </a:rPr>
                <a:t>Disaster c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12800" y="4699080"/>
              <a:ext cx="30492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612800" y="4470480"/>
              <a:ext cx="9907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85B4-C3DE-4AF4-A8E6-F48EAA2BF6B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2d8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371600" y="5435640"/>
            <a:ext cx="137160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Output: e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5079960"/>
            <a:ext cx="1371600" cy="703800"/>
          </a:xfrm>
          <a:prstGeom prst="rect">
            <a:avLst/>
          </a:prstGeom>
          <a:solidFill>
            <a:srgbClr val="2d2d8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Output: Cash f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Stone Sans"/>
              </a:rPr>
              <a:t>CONTRAST</a:t>
            </a:r>
            <a:endParaRPr b="0" lang="en-US" sz="4400" spc="-1" strike="noStrike">
              <a:solidFill>
                <a:srgbClr val="ffffff"/>
              </a:solidFill>
              <a:latin typeface="Stone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Stone Sans"/>
              </a:rPr>
              <a:t>PREFERRED</a:t>
            </a:r>
            <a:endParaRPr b="0" lang="en-US" sz="2400" spc="-1" strike="noStrike">
              <a:solidFill>
                <a:srgbClr val="ffffff"/>
              </a:solidFill>
              <a:latin typeface="Stone Sans"/>
            </a:endParaRPr>
          </a:p>
          <a:p>
            <a:pPr indent="0">
              <a:lnSpc>
                <a:spcPts val="2200"/>
              </a:lnSpc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one 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24280" y="14479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Stone Sans"/>
              </a:rPr>
              <a:t>ALTERNATIVE</a:t>
            </a:r>
            <a:endParaRPr b="0" lang="en-US" sz="2400" spc="-1" strike="noStrike">
              <a:solidFill>
                <a:srgbClr val="ffffff"/>
              </a:solidFill>
              <a:latin typeface="Stone Sans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2413080"/>
            <a:ext cx="137160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Inp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400" y="3403440"/>
            <a:ext cx="137160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Work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4737240"/>
            <a:ext cx="1371600" cy="703800"/>
          </a:xfrm>
          <a:prstGeom prst="rect">
            <a:avLst/>
          </a:prstGeom>
          <a:solidFill>
            <a:srgbClr val="2d2d8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Output: P&amp;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4394160"/>
            <a:ext cx="1371600" cy="703800"/>
          </a:xfrm>
          <a:prstGeom prst="rect">
            <a:avLst/>
          </a:prstGeom>
          <a:solidFill>
            <a:srgbClr val="2d2d8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Outputs: 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1" idx="2"/>
            <a:endCxn id="152" idx="0"/>
          </p:cNvCxnSpPr>
          <p:nvPr/>
        </p:nvCxnSpPr>
        <p:spPr>
          <a:xfrm>
            <a:off x="1599840" y="2819520"/>
            <a:ext cx="1080" cy="584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2" idx="2"/>
            <a:endCxn id="154" idx="0"/>
          </p:cNvCxnSpPr>
          <p:nvPr/>
        </p:nvCxnSpPr>
        <p:spPr>
          <a:xfrm>
            <a:off x="1599840" y="3809520"/>
            <a:ext cx="1080" cy="585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7" name=""/>
          <p:cNvSpPr/>
          <p:nvPr/>
        </p:nvSpPr>
        <p:spPr>
          <a:xfrm>
            <a:off x="6462720" y="5322960"/>
            <a:ext cx="1371600" cy="398880"/>
          </a:xfrm>
          <a:prstGeom prst="rect">
            <a:avLst/>
          </a:prstGeom>
          <a:solidFill>
            <a:srgbClr val="2d2d8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P&amp;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18080" y="3676680"/>
            <a:ext cx="1371600" cy="398880"/>
          </a:xfrm>
          <a:prstGeom prst="rect">
            <a:avLst/>
          </a:prstGeom>
          <a:solidFill>
            <a:srgbClr val="2d2d8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Finan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33920" y="5664240"/>
            <a:ext cx="1371600" cy="398880"/>
          </a:xfrm>
          <a:prstGeom prst="rect">
            <a:avLst/>
          </a:prstGeom>
          <a:solidFill>
            <a:srgbClr val="2d2d8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89680" y="4500720"/>
            <a:ext cx="1371600" cy="398880"/>
          </a:xfrm>
          <a:prstGeom prst="rect">
            <a:avLst/>
          </a:prstGeom>
          <a:solidFill>
            <a:srgbClr val="2d2d8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Cash f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934320" y="6146640"/>
            <a:ext cx="1371600" cy="398880"/>
          </a:xfrm>
          <a:prstGeom prst="rect">
            <a:avLst/>
          </a:prstGeom>
          <a:solidFill>
            <a:srgbClr val="2d2d8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B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29200" y="6146640"/>
            <a:ext cx="1371600" cy="398880"/>
          </a:xfrm>
          <a:prstGeom prst="rect">
            <a:avLst/>
          </a:prstGeom>
          <a:solidFill>
            <a:srgbClr val="2d2d8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Ass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0" y="2031840"/>
            <a:ext cx="1371600" cy="398880"/>
          </a:xfrm>
          <a:prstGeom prst="rect">
            <a:avLst/>
          </a:prstGeom>
          <a:solidFill>
            <a:srgbClr val="2d2d8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Reven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045040" y="2854440"/>
            <a:ext cx="1371600" cy="398880"/>
          </a:xfrm>
          <a:prstGeom prst="rect">
            <a:avLst/>
          </a:prstGeom>
          <a:solidFill>
            <a:srgbClr val="2d2d8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Co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" name=""/>
          <p:cNvCxnSpPr>
            <a:stCxn id="160" idx="0"/>
            <a:endCxn id="161" idx="3"/>
          </p:cNvCxnSpPr>
          <p:nvPr/>
        </p:nvCxnSpPr>
        <p:spPr>
          <a:xfrm flipH="1" rot="16200000">
            <a:off x="6565680" y="4609080"/>
            <a:ext cx="1850040" cy="1631160"/>
          </a:xfrm>
          <a:prstGeom prst="bentConnector4">
            <a:avLst>
              <a:gd name="adj1" fmla="val -12358"/>
              <a:gd name="adj2" fmla="val 114017"/>
            </a:avLst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6" name=""/>
          <p:cNvCxnSpPr>
            <a:stCxn id="157" idx="2"/>
            <a:endCxn id="161" idx="0"/>
          </p:cNvCxnSpPr>
          <p:nvPr/>
        </p:nvCxnSpPr>
        <p:spPr>
          <a:xfrm>
            <a:off x="7148520" y="5729040"/>
            <a:ext cx="472320" cy="417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7" name=""/>
          <p:cNvCxnSpPr>
            <a:stCxn id="160" idx="2"/>
            <a:endCxn id="157" idx="0"/>
          </p:cNvCxnSpPr>
          <p:nvPr/>
        </p:nvCxnSpPr>
        <p:spPr>
          <a:xfrm>
            <a:off x="6675480" y="4906800"/>
            <a:ext cx="473760" cy="416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8" name=""/>
          <p:cNvCxnSpPr>
            <a:stCxn id="158" idx="2"/>
            <a:endCxn id="160" idx="0"/>
          </p:cNvCxnSpPr>
          <p:nvPr/>
        </p:nvCxnSpPr>
        <p:spPr>
          <a:xfrm>
            <a:off x="6203880" y="4083120"/>
            <a:ext cx="472320" cy="41832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9" name=""/>
          <p:cNvCxnSpPr>
            <a:stCxn id="163" idx="1"/>
            <a:endCxn id="160" idx="1"/>
          </p:cNvCxnSpPr>
          <p:nvPr/>
        </p:nvCxnSpPr>
        <p:spPr>
          <a:xfrm flipH="1" flipV="1" rot="10800000">
            <a:off x="4571640" y="2234160"/>
            <a:ext cx="1418400" cy="2469240"/>
          </a:xfrm>
          <a:prstGeom prst="bentConnector3">
            <a:avLst>
              <a:gd name="adj1" fmla="val -161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4" idx="1"/>
            <a:endCxn id="157" idx="1"/>
          </p:cNvCxnSpPr>
          <p:nvPr/>
        </p:nvCxnSpPr>
        <p:spPr>
          <a:xfrm flipH="1" flipV="1" rot="10800000">
            <a:off x="5044680" y="3056400"/>
            <a:ext cx="1418400" cy="2469240"/>
          </a:xfrm>
          <a:prstGeom prst="bentConnector3">
            <a:avLst>
              <a:gd name="adj1" fmla="val -161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64" idx="3"/>
            <a:endCxn id="160" idx="3"/>
          </p:cNvCxnSpPr>
          <p:nvPr/>
        </p:nvCxnSpPr>
        <p:spPr>
          <a:xfrm>
            <a:off x="6416640" y="3057120"/>
            <a:ext cx="945360" cy="1647000"/>
          </a:xfrm>
          <a:prstGeom prst="bentConnector3">
            <a:avLst>
              <a:gd name="adj1" fmla="val 12419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63" idx="3"/>
            <a:endCxn id="157" idx="3"/>
          </p:cNvCxnSpPr>
          <p:nvPr/>
        </p:nvCxnSpPr>
        <p:spPr>
          <a:xfrm>
            <a:off x="5943600" y="2234880"/>
            <a:ext cx="1891440" cy="3291480"/>
          </a:xfrm>
          <a:prstGeom prst="bentConnector3">
            <a:avLst>
              <a:gd name="adj1" fmla="val 112088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58" idx="1"/>
            <a:endCxn id="157" idx="2"/>
          </p:cNvCxnSpPr>
          <p:nvPr/>
        </p:nvCxnSpPr>
        <p:spPr>
          <a:xfrm flipH="1" flipV="1" rot="10800000">
            <a:off x="5517000" y="3879360"/>
            <a:ext cx="1631160" cy="1850400"/>
          </a:xfrm>
          <a:prstGeom prst="bentConnector4">
            <a:avLst>
              <a:gd name="adj1" fmla="val -14017"/>
              <a:gd name="adj2" fmla="val 112356"/>
            </a:avLst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4" name=""/>
          <p:cNvCxnSpPr>
            <a:stCxn id="162" idx="3"/>
            <a:endCxn id="161" idx="1"/>
          </p:cNvCxnSpPr>
          <p:nvPr/>
        </p:nvCxnSpPr>
        <p:spPr>
          <a:xfrm>
            <a:off x="6400800" y="6349680"/>
            <a:ext cx="5342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59" idx="1"/>
            <a:endCxn id="161" idx="2"/>
          </p:cNvCxnSpPr>
          <p:nvPr/>
        </p:nvCxnSpPr>
        <p:spPr>
          <a:xfrm flipH="1" flipV="1" rot="10800000">
            <a:off x="3732840" y="5866200"/>
            <a:ext cx="3886920" cy="686520"/>
          </a:xfrm>
          <a:prstGeom prst="bentConnector4">
            <a:avLst>
              <a:gd name="adj1" fmla="val -5881"/>
              <a:gd name="adj2" fmla="val 133315"/>
            </a:avLst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6" name=""/>
          <p:cNvCxnSpPr>
            <a:stCxn id="159" idx="3"/>
            <a:endCxn id="157" idx="1"/>
          </p:cNvCxnSpPr>
          <p:nvPr/>
        </p:nvCxnSpPr>
        <p:spPr>
          <a:xfrm flipV="1">
            <a:off x="5105520" y="5525640"/>
            <a:ext cx="1357920" cy="342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stCxn id="159" idx="0"/>
            <a:endCxn id="160" idx="2"/>
          </p:cNvCxnSpPr>
          <p:nvPr/>
        </p:nvCxnSpPr>
        <p:spPr>
          <a:xfrm flipV="1">
            <a:off x="4419720" y="4906440"/>
            <a:ext cx="2256480" cy="75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62" idx="1"/>
            <a:endCxn id="159" idx="2"/>
          </p:cNvCxnSpPr>
          <p:nvPr/>
        </p:nvCxnSpPr>
        <p:spPr>
          <a:xfrm rot="10800000">
            <a:off x="4419000" y="6069960"/>
            <a:ext cx="610200" cy="28008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58" idx="3"/>
            <a:endCxn id="161" idx="3"/>
          </p:cNvCxnSpPr>
          <p:nvPr/>
        </p:nvCxnSpPr>
        <p:spPr>
          <a:xfrm>
            <a:off x="6889680" y="3879720"/>
            <a:ext cx="1416960" cy="2471040"/>
          </a:xfrm>
          <a:prstGeom prst="curvedConnector5">
            <a:avLst>
              <a:gd name="adj1" fmla="val 116137"/>
              <a:gd name="adj2" fmla="val 49992"/>
              <a:gd name="adj3" fmla="val 116137"/>
            </a:avLst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0" name=""/>
          <p:cNvCxnSpPr>
            <a:stCxn id="162" idx="0"/>
            <a:endCxn id="157" idx="2"/>
          </p:cNvCxnSpPr>
          <p:nvPr/>
        </p:nvCxnSpPr>
        <p:spPr>
          <a:xfrm flipV="1">
            <a:off x="5715000" y="5728680"/>
            <a:ext cx="1434240" cy="417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62" idx="0"/>
            <a:endCxn id="160" idx="2"/>
          </p:cNvCxnSpPr>
          <p:nvPr/>
        </p:nvCxnSpPr>
        <p:spPr>
          <a:xfrm flipV="1">
            <a:off x="5715000" y="4906440"/>
            <a:ext cx="961200" cy="1240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F91D-6B86-4233-93F7-DEE3A79486E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12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Stone Sans"/>
              </a:rPr>
              <a:t>UPDATING: ONE STEP</a:t>
            </a:r>
            <a:endParaRPr b="0" lang="en-US" sz="4400" spc="-1" strike="noStrike">
              <a:solidFill>
                <a:srgbClr val="ffffff"/>
              </a:solidFill>
              <a:latin typeface="Stone Sans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182080" cy="36957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8182080" cy="3695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7FEA-E328-4D0C-8BF1-D296C366D2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12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182080" cy="36957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8182080" cy="36957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457200" y="1981080"/>
            <a:ext cx="8182080" cy="369576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Stone Sans"/>
              </a:rPr>
              <a:t>UPDATING: TWO STEP</a:t>
            </a:r>
            <a:endParaRPr b="0" lang="en-US" sz="4400" spc="-1" strike="noStrike">
              <a:solidFill>
                <a:srgbClr val="ffffff"/>
              </a:solidFill>
              <a:latin typeface="Stone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6B04-E79D-44FF-BDA8-82113E913C2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12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Stone Sans"/>
              </a:rPr>
              <a:t>WHAT’S MOVING?</a:t>
            </a:r>
            <a:endParaRPr b="0" lang="en-US" sz="4400" spc="-1" strike="noStrike">
              <a:solidFill>
                <a:srgbClr val="ffffff"/>
              </a:solidFill>
              <a:latin typeface="Stone Sans"/>
            </a:endParaRPr>
          </a:p>
        </p:txBody>
      </p:sp>
      <p:sp>
        <p:nvSpPr>
          <p:cNvPr id="190" name=""/>
          <p:cNvSpPr/>
          <p:nvPr/>
        </p:nvSpPr>
        <p:spPr>
          <a:xfrm>
            <a:off x="609480" y="1828800"/>
            <a:ext cx="39625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ts val="2200"/>
              </a:lnSpc>
              <a:spcBef>
                <a:spcPts val="3300"/>
              </a:spcBef>
              <a:tabLst>
                <a:tab algn="l" pos="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0" y="1828800"/>
            <a:ext cx="36576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ts val="2200"/>
              </a:lnSpc>
              <a:spcBef>
                <a:spcPts val="3300"/>
              </a:spcBef>
              <a:tabLst>
                <a:tab algn="l" pos="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Bef>
                <a:spcPts val="3300"/>
              </a:spcBef>
              <a:tabLst>
                <a:tab algn="l" pos="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Bef>
                <a:spcPts val="3300"/>
              </a:spcBef>
              <a:tabLst>
                <a:tab algn="l" pos="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Bef>
                <a:spcPts val="3300"/>
              </a:spcBef>
              <a:tabLst>
                <a:tab algn="l" pos="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spcBef>
                <a:spcPts val="3300"/>
              </a:spcBef>
              <a:tabLst>
                <a:tab algn="l" pos="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spcBef>
                <a:spcPts val="3300"/>
              </a:spcBef>
              <a:tabLst>
                <a:tab algn="l" pos="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534960" y="1447920"/>
          <a:ext cx="8350200" cy="878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4960" y="1447920"/>
                    <a:ext cx="8350200" cy="87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E403-0475-4409-BBFE-78DDA811206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2d8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Stone Sans"/>
              </a:rPr>
              <a:t>AUDIT TESTS</a:t>
            </a:r>
            <a:endParaRPr b="0" lang="en-US" sz="4400" spc="-1" strike="noStrike">
              <a:solidFill>
                <a:srgbClr val="ffffff"/>
              </a:solidFill>
              <a:latin typeface="Stone Sans"/>
            </a:endParaRPr>
          </a:p>
        </p:txBody>
      </p:sp>
      <p:sp>
        <p:nvSpPr>
          <p:cNvPr id="195" name=""/>
          <p:cNvSpPr/>
          <p:nvPr/>
        </p:nvSpPr>
        <p:spPr>
          <a:xfrm>
            <a:off x="1219320" y="5003640"/>
            <a:ext cx="137160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Output: e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4648320"/>
            <a:ext cx="1371600" cy="703800"/>
          </a:xfrm>
          <a:prstGeom prst="rect">
            <a:avLst/>
          </a:prstGeom>
          <a:solidFill>
            <a:srgbClr val="2d2d8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Output: Cash f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62120" y="1981080"/>
            <a:ext cx="137160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Inp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2971800"/>
            <a:ext cx="137160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Work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14400" y="4305240"/>
            <a:ext cx="1371600" cy="703800"/>
          </a:xfrm>
          <a:prstGeom prst="rect">
            <a:avLst/>
          </a:prstGeom>
          <a:solidFill>
            <a:srgbClr val="2d2d8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Output: P&amp;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2120" y="3962520"/>
            <a:ext cx="1371600" cy="703800"/>
          </a:xfrm>
          <a:prstGeom prst="rect">
            <a:avLst/>
          </a:prstGeom>
          <a:solidFill>
            <a:srgbClr val="2d2d8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Outputs: 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97" idx="2"/>
            <a:endCxn id="198" idx="0"/>
          </p:cNvCxnSpPr>
          <p:nvPr/>
        </p:nvCxnSpPr>
        <p:spPr>
          <a:xfrm>
            <a:off x="1447560" y="2387160"/>
            <a:ext cx="1080" cy="585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198" idx="2"/>
            <a:endCxn id="200" idx="0"/>
          </p:cNvCxnSpPr>
          <p:nvPr/>
        </p:nvCxnSpPr>
        <p:spPr>
          <a:xfrm>
            <a:off x="1447560" y="3377880"/>
            <a:ext cx="1080" cy="585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03" name=""/>
          <p:cNvSpPr/>
          <p:nvPr/>
        </p:nvSpPr>
        <p:spPr>
          <a:xfrm>
            <a:off x="4038480" y="1676520"/>
            <a:ext cx="4953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ts val="2200"/>
              </a:lnSpc>
              <a:spcBef>
                <a:spcPts val="3300"/>
              </a:spcBef>
              <a:tabLst>
                <a:tab algn="l" pos="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Stone Sans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Bef>
                <a:spcPts val="2200"/>
              </a:spcBef>
              <a:tabLst>
                <a:tab algn="l" pos="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Separating the workings from the outpu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Bef>
                <a:spcPts val="1100"/>
              </a:spcBef>
              <a:tabLst>
                <a:tab algn="l" pos="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• </a:t>
            </a: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wages war on long formul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Bef>
                <a:spcPts val="1100"/>
              </a:spcBef>
              <a:tabLst>
                <a:tab algn="l" pos="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• </a:t>
            </a: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BUT, risks misreporting </a:t>
            </a: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calcul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Bef>
                <a:spcPts val="3300"/>
              </a:spcBef>
              <a:tabLst>
                <a:tab algn="l" pos="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Stone Sans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Bef>
                <a:spcPts val="2200"/>
              </a:spcBef>
              <a:tabLst>
                <a:tab algn="l" pos="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Bef>
                <a:spcPts val="2200"/>
              </a:spcBef>
              <a:tabLst>
                <a:tab algn="l" pos="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• </a:t>
            </a: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tests anything we can think of: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   bs balances, subtotals add 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Bef>
                <a:spcPts val="1100"/>
              </a:spcBef>
              <a:tabLst>
                <a:tab algn="l" pos="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• </a:t>
            </a: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typically 20-25% audit overhe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Bef>
                <a:spcPts val="2200"/>
              </a:spcBef>
              <a:tabLst>
                <a:tab algn="l" pos="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91120" y="4267080"/>
            <a:ext cx="137160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Au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5" name=""/>
          <p:cNvCxnSpPr>
            <a:stCxn id="200" idx="3"/>
            <a:endCxn id="204" idx="1"/>
          </p:cNvCxnSpPr>
          <p:nvPr/>
        </p:nvCxnSpPr>
        <p:spPr>
          <a:xfrm>
            <a:off x="2133360" y="4317840"/>
            <a:ext cx="2057760" cy="153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199" idx="3"/>
            <a:endCxn id="204" idx="1"/>
          </p:cNvCxnSpPr>
          <p:nvPr/>
        </p:nvCxnSpPr>
        <p:spPr>
          <a:xfrm flipV="1">
            <a:off x="2286000" y="4469760"/>
            <a:ext cx="1905840" cy="191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07" name=""/>
          <p:cNvCxnSpPr>
            <a:stCxn id="195" idx="3"/>
            <a:endCxn id="204" idx="1"/>
          </p:cNvCxnSpPr>
          <p:nvPr/>
        </p:nvCxnSpPr>
        <p:spPr>
          <a:xfrm flipV="1">
            <a:off x="2590560" y="4469760"/>
            <a:ext cx="1600920" cy="889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08" name=""/>
          <p:cNvCxnSpPr>
            <a:stCxn id="196" idx="3"/>
            <a:endCxn id="204" idx="1"/>
          </p:cNvCxnSpPr>
          <p:nvPr/>
        </p:nvCxnSpPr>
        <p:spPr>
          <a:xfrm flipV="1">
            <a:off x="2437920" y="4469760"/>
            <a:ext cx="1753560" cy="533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09" name=""/>
          <p:cNvCxnSpPr>
            <a:stCxn id="198" idx="3"/>
            <a:endCxn id="204" idx="1"/>
          </p:cNvCxnSpPr>
          <p:nvPr/>
        </p:nvCxnSpPr>
        <p:spPr>
          <a:xfrm>
            <a:off x="2133360" y="3174480"/>
            <a:ext cx="2057760" cy="1296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BF6C-9004-4C91-A818-51A5E5B12BB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12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Stone Sans"/>
              </a:rPr>
              <a:t>WHO COULD OBJECT?</a:t>
            </a:r>
            <a:endParaRPr b="0" lang="en-US" sz="4400" spc="-1" strike="noStrike">
              <a:solidFill>
                <a:srgbClr val="ffffff"/>
              </a:solidFill>
              <a:latin typeface="Stone Sans"/>
            </a:endParaRPr>
          </a:p>
        </p:txBody>
      </p:sp>
      <p:sp>
        <p:nvSpPr>
          <p:cNvPr id="211" name=""/>
          <p:cNvSpPr/>
          <p:nvPr/>
        </p:nvSpPr>
        <p:spPr>
          <a:xfrm>
            <a:off x="609480" y="1828800"/>
            <a:ext cx="39625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ts val="2200"/>
              </a:lnSpc>
              <a:spcBef>
                <a:spcPts val="3300"/>
              </a:spcBef>
              <a:tabLst>
                <a:tab algn="l" pos="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1600200"/>
            <a:ext cx="3886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ts val="2200"/>
              </a:lnSpc>
              <a:spcBef>
                <a:spcPts val="3300"/>
              </a:spcBef>
              <a:tabLst>
                <a:tab algn="l" pos="0"/>
                <a:tab algn="l" pos="28728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Stone Sans"/>
              </a:rPr>
              <a:t>PROFESSIONAL AUDI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Bef>
                <a:spcPts val="3300"/>
              </a:spcBef>
              <a:tabLst>
                <a:tab algn="l" pos="0"/>
                <a:tab algn="l" pos="28728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Extra 25% of formulae that contribute nothing to the outp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Bef>
                <a:spcPts val="3300"/>
              </a:spcBef>
              <a:tabLst>
                <a:tab algn="l" pos="0"/>
                <a:tab algn="l" pos="28728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On more than half of occasions, professional auditors ask 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Bef>
                <a:spcPts val="1100"/>
              </a:spcBef>
              <a:tabLst>
                <a:tab algn="l" pos="0"/>
                <a:tab algn="l" pos="28728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•</a:t>
            </a: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either, to remove the audit </a:t>
            </a: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sheet from the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Bef>
                <a:spcPts val="1100"/>
              </a:spcBef>
              <a:tabLst>
                <a:tab algn="l" pos="0"/>
                <a:tab algn="l" pos="28728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•</a:t>
            </a: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or exclude it from their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scope of wor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Bef>
                <a:spcPts val="1100"/>
              </a:spcBef>
              <a:tabLst>
                <a:tab algn="l" pos="0"/>
                <a:tab algn="l" pos="28728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1480" y="1600200"/>
            <a:ext cx="3733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ts val="2200"/>
              </a:lnSpc>
              <a:spcBef>
                <a:spcPts val="3300"/>
              </a:spcBef>
              <a:tabLst>
                <a:tab algn="l" pos="0"/>
                <a:tab algn="l" pos="28728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Stone Sans"/>
              </a:rPr>
              <a:t>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Bef>
                <a:spcPts val="3300"/>
              </a:spcBef>
              <a:tabLst>
                <a:tab algn="l" pos="0"/>
                <a:tab algn="l" pos="28728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When they do check the audit tests, outside auditors sometimes find slips in the tes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Bef>
                <a:spcPts val="3300"/>
              </a:spcBef>
              <a:tabLst>
                <a:tab algn="l" pos="0"/>
                <a:tab algn="l" pos="28728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=&gt; Misplaced confide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Bef>
                <a:spcPts val="2200"/>
              </a:spcBef>
              <a:tabLst>
                <a:tab algn="l" pos="0"/>
                <a:tab algn="l" pos="28728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1A38-3684-4ED5-B321-C7CE8627A7E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2d8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Stone Sans"/>
              </a:rPr>
              <a:t>NAMES</a:t>
            </a:r>
            <a:endParaRPr b="0" lang="en-US" sz="4400" spc="-1" strike="noStrike">
              <a:solidFill>
                <a:srgbClr val="ffffff"/>
              </a:solidFill>
              <a:latin typeface="Stone Sans"/>
            </a:endParaRPr>
          </a:p>
        </p:txBody>
      </p:sp>
      <p:sp>
        <p:nvSpPr>
          <p:cNvPr id="215" name=""/>
          <p:cNvSpPr/>
          <p:nvPr/>
        </p:nvSpPr>
        <p:spPr>
          <a:xfrm>
            <a:off x="4724280" y="1600200"/>
            <a:ext cx="3962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ts val="2200"/>
              </a:lnSpc>
              <a:spcBef>
                <a:spcPts val="3300"/>
              </a:spcBef>
              <a:tabLst>
                <a:tab algn="l" pos="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Stone Sans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Bef>
                <a:spcPts val="2200"/>
              </a:spcBef>
              <a:tabLst>
                <a:tab algn="l" pos="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Solution to problem should not be expressed in terms of its layou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Bef>
                <a:spcPts val="2200"/>
              </a:spcBef>
              <a:tabLst>
                <a:tab algn="l" pos="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Possible to reuse bits of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Bef>
                <a:spcPts val="2200"/>
              </a:spcBef>
              <a:tabLst>
                <a:tab algn="l" pos="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Bef>
                <a:spcPts val="2200"/>
              </a:spcBef>
              <a:tabLst>
                <a:tab algn="l" pos="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1600200"/>
            <a:ext cx="3962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ts val="2200"/>
              </a:lnSpc>
              <a:spcBef>
                <a:spcPts val="3300"/>
              </a:spcBef>
              <a:tabLst>
                <a:tab algn="l" pos="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Stone Sans"/>
              </a:rPr>
              <a:t>DA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Bef>
                <a:spcPts val="2200"/>
              </a:spcBef>
              <a:tabLst>
                <a:tab algn="l" pos="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Standard naming convention allows consultants to pick up each others’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Bef>
                <a:spcPts val="2200"/>
              </a:spcBef>
              <a:tabLst>
                <a:tab algn="l" pos="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Search for relevant lines is through psychologically ordered name space, not through physically ordered cell spac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Bef>
                <a:spcPts val="2200"/>
              </a:spcBef>
              <a:tabLst>
                <a:tab algn="l" pos="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Formulae more readable, especially those that link to other shee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Bef>
                <a:spcPts val="2200"/>
              </a:spcBef>
              <a:tabLst>
                <a:tab algn="l" pos="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Automatic column matching eliminates a whole class of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63E5-D089-4DEF-A05B-1FEB7B4151F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2d8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Stone Sans"/>
              </a:rPr>
              <a:t>WHO SAID...?</a:t>
            </a:r>
            <a:endParaRPr b="0" lang="en-US" sz="4400" spc="-1" strike="noStrike">
              <a:solidFill>
                <a:srgbClr val="ffffff"/>
              </a:solidFill>
              <a:latin typeface="Stone Sans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162600" cy="38098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609480" y="1752480"/>
            <a:ext cx="3962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ts val="2200"/>
              </a:lnSpc>
              <a:spcBef>
                <a:spcPts val="3300"/>
              </a:spcBef>
              <a:tabLst>
                <a:tab algn="l" pos="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The quantity I introduced in equation 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spcBef>
                <a:spcPts val="1100"/>
              </a:spcBef>
              <a:tabLst>
                <a:tab algn="l" pos="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spcBef>
                <a:spcPts val="1100"/>
              </a:spcBef>
              <a:tabLst>
                <a:tab algn="l" pos="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the quantity I introduced on page 2, paragraph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spcBef>
                <a:spcPts val="1100"/>
              </a:spcBef>
              <a:tabLst>
                <a:tab algn="l" pos="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spcBef>
                <a:spcPts val="1100"/>
              </a:spcBef>
              <a:tabLst>
                <a:tab algn="l" pos="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(what Maxwell was talking about on page 4 paragraph 12 of his treatise on Electricity and Magnetism of 1873)</a:t>
            </a:r>
            <a:r>
              <a:rPr b="0" lang="en-GB" sz="2000" spc="-1" strike="noStrike" baseline="30000">
                <a:solidFill>
                  <a:srgbClr val="ffffff"/>
                </a:solidFill>
                <a:latin typeface="Stone San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74B3-8D21-4FA9-BE77-56EC39EC1DE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12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Stone Sans"/>
              </a:rPr>
              <a:t>NAMES UNPOPULAR</a:t>
            </a:r>
            <a:endParaRPr b="0" lang="en-US" sz="4400" spc="-1" strike="noStrike">
              <a:solidFill>
                <a:srgbClr val="ffffff"/>
              </a:solidFill>
              <a:latin typeface="Stone Sans"/>
            </a:endParaRPr>
          </a:p>
        </p:txBody>
      </p:sp>
      <p:sp>
        <p:nvSpPr>
          <p:cNvPr id="221" name=""/>
          <p:cNvSpPr/>
          <p:nvPr/>
        </p:nvSpPr>
        <p:spPr>
          <a:xfrm>
            <a:off x="609480" y="1828800"/>
            <a:ext cx="39625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ts val="2200"/>
              </a:lnSpc>
              <a:spcBef>
                <a:spcPts val="3300"/>
              </a:spcBef>
              <a:tabLst>
                <a:tab algn="l" pos="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1600200"/>
            <a:ext cx="807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ts val="2200"/>
              </a:lnSpc>
              <a:spcBef>
                <a:spcPts val="3300"/>
              </a:spcBef>
              <a:tabLst>
                <a:tab algn="l" pos="0"/>
                <a:tab algn="l" pos="28728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Many organisations use Operis method, less Nam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Bef>
                <a:spcPts val="2200"/>
              </a:spcBef>
              <a:tabLst>
                <a:tab algn="l" pos="0"/>
                <a:tab algn="l" pos="28728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Some clients explicitly reject names: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=&gt;   Latest Operis Analysis Kit has Names Deapply comma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3048120"/>
            <a:ext cx="3733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ts val="2200"/>
              </a:lnSpc>
              <a:spcBef>
                <a:spcPts val="3300"/>
              </a:spcBef>
              <a:tabLst>
                <a:tab algn="l" pos="0"/>
                <a:tab algn="l" pos="28728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Stone Sans"/>
              </a:rPr>
              <a:t>REASONS 1: IGNO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Bef>
                <a:spcPts val="3300"/>
              </a:spcBef>
              <a:tabLst>
                <a:tab algn="l" pos="0"/>
                <a:tab algn="l" pos="28728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To use Names well, </a:t>
            </a:r>
            <a:r>
              <a:rPr b="0" i="1" lang="en-GB" sz="2000" spc="-1" strike="noStrike">
                <a:solidFill>
                  <a:srgbClr val="ffffff"/>
                </a:solidFill>
                <a:latin typeface="Stone Sans"/>
              </a:rPr>
              <a:t>whole team </a:t>
            </a: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needs to be taught Names </a:t>
            </a:r>
            <a:r>
              <a:rPr b="0" i="1" lang="en-GB" sz="2000" spc="-1" strike="noStrike">
                <a:solidFill>
                  <a:srgbClr val="ffffff"/>
                </a:solidFill>
                <a:latin typeface="Stone Sans"/>
              </a:rPr>
              <a:t>well</a:t>
            </a: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Bef>
                <a:spcPts val="1100"/>
              </a:spcBef>
              <a:tabLst>
                <a:tab algn="l" pos="0"/>
                <a:tab algn="l" pos="28728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•</a:t>
            </a: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create, ap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Bef>
                <a:spcPts val="1100"/>
              </a:spcBef>
              <a:tabLst>
                <a:tab algn="l" pos="0"/>
                <a:tab algn="l" pos="28728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•</a:t>
            </a: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alter, check, de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Bef>
                <a:spcPts val="1100"/>
              </a:spcBef>
              <a:tabLst>
                <a:tab algn="l" pos="0"/>
                <a:tab algn="l" pos="28728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•</a:t>
            </a: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row/column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Bef>
                <a:spcPts val="1100"/>
              </a:spcBef>
              <a:tabLst>
                <a:tab algn="l" pos="0"/>
                <a:tab algn="l" pos="28728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•</a:t>
            </a: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global/lo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800600" y="3048120"/>
            <a:ext cx="396252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ts val="2200"/>
              </a:lnSpc>
              <a:spcBef>
                <a:spcPts val="3300"/>
              </a:spcBef>
              <a:tabLst>
                <a:tab algn="l" pos="0"/>
                <a:tab algn="l" pos="28728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Stone Sans"/>
              </a:rPr>
              <a:t>REASONS 2: INVE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Bef>
                <a:spcPts val="3300"/>
              </a:spcBef>
              <a:tabLst>
                <a:tab algn="l" pos="0"/>
                <a:tab algn="l" pos="28728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It takes a moment to define a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name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Bef>
                <a:spcPts val="1100"/>
              </a:spcBef>
              <a:tabLst>
                <a:tab algn="l" pos="0"/>
                <a:tab algn="l" pos="28728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• </a:t>
            </a: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valuable investment in </a:t>
            </a: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enduring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Bef>
                <a:spcPts val="1100"/>
              </a:spcBef>
              <a:tabLst>
                <a:tab algn="l" pos="0"/>
                <a:tab algn="l" pos="28728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• </a:t>
            </a: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not worth investment in </a:t>
            </a: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small, transient 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Bef>
                <a:spcPts val="2200"/>
              </a:spcBef>
              <a:tabLst>
                <a:tab algn="l" pos="0"/>
                <a:tab algn="l" pos="28728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…</a:t>
            </a: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and to check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Bef>
                <a:spcPts val="1100"/>
              </a:spcBef>
              <a:tabLst>
                <a:tab algn="l" pos="0"/>
                <a:tab algn="l" pos="28728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2A42-24E4-41EA-9713-320994B0A1A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2d8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Stone Sans"/>
              </a:rPr>
              <a:t>BALANCE SHEET LENDING</a:t>
            </a:r>
            <a:endParaRPr b="0" lang="en-US" sz="4400" spc="-1" strike="noStrike">
              <a:solidFill>
                <a:srgbClr val="ffffff"/>
              </a:solidFill>
              <a:latin typeface="Stone Sans"/>
            </a:endParaRPr>
          </a:p>
        </p:txBody>
      </p:sp>
      <p:sp>
        <p:nvSpPr>
          <p:cNvPr id="47" name=""/>
          <p:cNvSpPr/>
          <p:nvPr/>
        </p:nvSpPr>
        <p:spPr>
          <a:xfrm>
            <a:off x="4800600" y="1905120"/>
            <a:ext cx="3962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ts val="2200"/>
              </a:lnSpc>
              <a:spcBef>
                <a:spcPts val="3300"/>
              </a:spcBef>
              <a:tabLst>
                <a:tab algn="l" pos="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BALANCE SHEET</a:t>
            </a: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£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Bef>
                <a:spcPts val="3300"/>
              </a:spcBef>
              <a:tabLst>
                <a:tab algn="l" pos="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Buildings</a:t>
            </a: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1000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Other</a:t>
            </a: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500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Bank debt</a:t>
            </a: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(800)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Other</a:t>
            </a: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(1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Bef>
                <a:spcPts val="3300"/>
              </a:spcBef>
              <a:tabLst>
                <a:tab algn="l" pos="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Shareholders’ funds</a:t>
            </a: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6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3200400"/>
            <a:ext cx="1981080" cy="2533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Corporation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19320" y="1981080"/>
            <a:ext cx="198108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Ba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9" idx="2"/>
            <a:endCxn id="48" idx="0"/>
          </p:cNvCxnSpPr>
          <p:nvPr/>
        </p:nvCxnSpPr>
        <p:spPr>
          <a:xfrm>
            <a:off x="2209320" y="2387520"/>
            <a:ext cx="1080" cy="813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51" name=""/>
          <p:cNvSpPr/>
          <p:nvPr/>
        </p:nvSpPr>
        <p:spPr>
          <a:xfrm>
            <a:off x="1600200" y="4495680"/>
            <a:ext cx="1371600" cy="406440"/>
          </a:xfrm>
          <a:prstGeom prst="rect">
            <a:avLst/>
          </a:prstGeom>
          <a:solidFill>
            <a:srgbClr val="2e2e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47920" y="4648320"/>
            <a:ext cx="1371600" cy="406440"/>
          </a:xfrm>
          <a:prstGeom prst="rect">
            <a:avLst/>
          </a:prstGeom>
          <a:solidFill>
            <a:srgbClr val="2e2e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71600" y="4800600"/>
            <a:ext cx="1371600" cy="398880"/>
          </a:xfrm>
          <a:prstGeom prst="rect">
            <a:avLst/>
          </a:prstGeom>
          <a:solidFill>
            <a:srgbClr val="2e2e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29200" y="4724280"/>
            <a:ext cx="3352680" cy="1295640"/>
          </a:xfrm>
          <a:prstGeom prst="upArrowCallout">
            <a:avLst>
              <a:gd name="adj1" fmla="val 64697"/>
              <a:gd name="adj2" fmla="val 64692"/>
              <a:gd name="adj3" fmla="val 16667"/>
              <a:gd name="adj4" fmla="val 6666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Stone Sans"/>
              </a:rPr>
              <a:t>Adequate guide </a:t>
            </a:r>
            <a:br>
              <a:rPr sz="2000"/>
            </a:br>
            <a:r>
              <a:rPr b="0" lang="en-GB" sz="2000" spc="-1" strike="noStrike">
                <a:solidFill>
                  <a:srgbClr val="ff9900"/>
                </a:solidFill>
                <a:latin typeface="Stone Sans"/>
              </a:rPr>
              <a:t>as to whether to l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DEE9-4214-4D6C-A9A5-F84151CD40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2d8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Stone Sans"/>
              </a:rPr>
              <a:t>UNITS</a:t>
            </a:r>
            <a:endParaRPr b="0" lang="en-US" sz="4400" spc="-1" strike="noStrike">
              <a:solidFill>
                <a:srgbClr val="ffffff"/>
              </a:solidFill>
              <a:latin typeface="Stone Sans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1600200"/>
            <a:ext cx="3962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ts val="2200"/>
              </a:lnSpc>
              <a:spcBef>
                <a:spcPts val="3300"/>
              </a:spcBef>
              <a:tabLst>
                <a:tab algn="l" pos="0"/>
                <a:tab algn="l" pos="19512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Stone Sans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Bef>
                <a:spcPts val="2200"/>
              </a:spcBef>
              <a:tabLst>
                <a:tab algn="l" pos="0"/>
                <a:tab algn="l" pos="19512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(Best would be for ss cells to have notion of units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Bef>
                <a:spcPts val="2200"/>
              </a:spcBef>
              <a:tabLst>
                <a:tab algn="l" pos="0"/>
                <a:tab algn="l" pos="19512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Compromis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Bef>
                <a:spcPts val="2200"/>
              </a:spcBef>
              <a:tabLst>
                <a:tab algn="l" pos="0"/>
                <a:tab algn="l" pos="19512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•</a:t>
            </a: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Get into base units as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Bef>
                <a:spcPts val="2200"/>
              </a:spcBef>
              <a:tabLst>
                <a:tab algn="l" pos="0"/>
                <a:tab algn="l" pos="19512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•</a:t>
            </a: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Use formatting to remove </a:t>
            </a: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excess dig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Bef>
                <a:spcPts val="2200"/>
              </a:spcBef>
              <a:tabLst>
                <a:tab algn="l" pos="0"/>
                <a:tab algn="l" pos="19512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•</a:t>
            </a: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Styles are useful he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Bef>
                <a:spcPts val="2200"/>
              </a:spcBef>
              <a:tabLst>
                <a:tab algn="l" pos="0"/>
                <a:tab algn="l" pos="19512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1600200"/>
            <a:ext cx="3962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ts val="2200"/>
              </a:lnSpc>
              <a:spcBef>
                <a:spcPts val="3300"/>
              </a:spcBef>
              <a:tabLst>
                <a:tab algn="l" pos="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Stone Sans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Bef>
                <a:spcPts val="2200"/>
              </a:spcBef>
              <a:tabLst>
                <a:tab algn="l" pos="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Combining quantities which have incompatible units is a common source of err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Bef>
                <a:spcPts val="2200"/>
              </a:spcBef>
              <a:tabLst>
                <a:tab algn="l" pos="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• </a:t>
            </a:r>
            <a:r>
              <a:rPr b="0" lang="en-GB" sz="2000" spc="-1" strike="noStrike">
                <a:solidFill>
                  <a:srgbClr val="ffffff"/>
                </a:solidFill>
                <a:latin typeface="Euro Sans"/>
              </a:rPr>
              <a:t>E</a:t>
            </a: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 and £ and 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Bef>
                <a:spcPts val="2200"/>
              </a:spcBef>
              <a:tabLst>
                <a:tab algn="l" pos="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• </a:t>
            </a: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Thousands and mill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Bef>
                <a:spcPts val="2200"/>
              </a:spcBef>
              <a:tabLst>
                <a:tab algn="l" pos="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• </a:t>
            </a: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Km and m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8EC2-C483-4BF4-A1F4-E09C1809E49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12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Stone Sans"/>
              </a:rPr>
              <a:t>WYSINWG</a:t>
            </a:r>
            <a:endParaRPr b="0" lang="en-US" sz="4400" spc="-1" strike="noStrike">
              <a:solidFill>
                <a:srgbClr val="ffffff"/>
              </a:solidFill>
              <a:latin typeface="Stone Sans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1828800"/>
            <a:ext cx="39625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ts val="2200"/>
              </a:lnSpc>
              <a:spcBef>
                <a:spcPts val="3300"/>
              </a:spcBef>
              <a:tabLst>
                <a:tab algn="l" pos="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ts val="2200"/>
              </a:lnSpc>
              <a:spcBef>
                <a:spcPts val="3300"/>
              </a:spcBef>
              <a:tabLst>
                <a:tab algn="l" pos="0"/>
                <a:tab algn="l" pos="28728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Stone Sans"/>
              </a:rPr>
              <a:t>WHAT HAPPENS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Stone Sans"/>
              </a:rPr>
              <a:t>WHEN YOU TYP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Bef>
                <a:spcPts val="3300"/>
              </a:spcBef>
              <a:tabLst>
                <a:tab algn="l" pos="0"/>
                <a:tab algn="l" pos="28728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You see 1.2 but you want to have 1.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Bef>
                <a:spcPts val="2200"/>
              </a:spcBef>
              <a:tabLst>
                <a:tab algn="l" pos="0"/>
                <a:tab algn="l" pos="28728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You have to type 14000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Bef>
                <a:spcPts val="3300"/>
              </a:spcBef>
              <a:tabLst>
                <a:tab algn="l" pos="0"/>
                <a:tab algn="l" pos="28728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We know that the underlying number is in units; the appearance in millions is only formatting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Bef>
                <a:spcPts val="2200"/>
              </a:spcBef>
              <a:tabLst>
                <a:tab algn="l" pos="0"/>
                <a:tab algn="l" pos="28728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But does the ss us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724280" y="1676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>
              <a:lnSpc>
                <a:spcPts val="2200"/>
              </a:lnSpc>
              <a:spcBef>
                <a:spcPts val="3300"/>
              </a:spcBef>
              <a:tabLst>
                <a:tab algn="l" pos="0"/>
                <a:tab algn="l" pos="28728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Stone Sans"/>
              </a:rPr>
              <a:t>WHAT HAPPEN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Stone Sans"/>
              </a:rPr>
              <a:t>WHEN YOU COP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Bef>
                <a:spcPts val="3300"/>
              </a:spcBef>
              <a:tabLst>
                <a:tab algn="l" pos="0"/>
                <a:tab algn="l" pos="28728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A cell contains 1200000, but is formatted to show 1.2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(ie million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Bef>
                <a:spcPts val="3300"/>
              </a:spcBef>
              <a:tabLst>
                <a:tab algn="l" pos="0"/>
                <a:tab algn="l" pos="28728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When copied 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Bef>
                <a:spcPts val="1100"/>
              </a:spcBef>
              <a:tabLst>
                <a:tab algn="l" pos="0"/>
                <a:tab algn="l" pos="28728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•  </a:t>
            </a: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Word, it comes across as 1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Bef>
                <a:spcPts val="1100"/>
              </a:spcBef>
              <a:tabLst>
                <a:tab algn="l" pos="0"/>
                <a:tab algn="l" pos="28728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•  </a:t>
            </a: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Access, it comes across as </a:t>
            </a: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	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120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Bef>
                <a:spcPts val="3300"/>
              </a:spcBef>
              <a:tabLst>
                <a:tab algn="l" pos="0"/>
                <a:tab algn="l" pos="28728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47B6-2676-4573-B34E-8D97D5F7C50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12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Stone Sans"/>
              </a:rPr>
              <a:t>SPACES</a:t>
            </a:r>
            <a:endParaRPr b="0" lang="en-US" sz="4400" spc="-1" strike="noStrike">
              <a:solidFill>
                <a:srgbClr val="ffffff"/>
              </a:solidFill>
              <a:latin typeface="Stone Sans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" y="1828800"/>
            <a:ext cx="39625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ts val="2200"/>
              </a:lnSpc>
              <a:spcBef>
                <a:spcPts val="3300"/>
              </a:spcBef>
              <a:tabLst>
                <a:tab algn="l" pos="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90720" y="1905120"/>
            <a:ext cx="7010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ts val="2200"/>
              </a:lnSpc>
              <a:spcBef>
                <a:spcPts val="3300"/>
              </a:spcBef>
              <a:tabLst>
                <a:tab algn="l" pos="0"/>
                <a:tab algn="l" pos="28728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At the last Eusprig meeting, we were urg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spcBef>
                <a:spcPts val="3300"/>
              </a:spcBef>
              <a:tabLst>
                <a:tab algn="l" pos="0"/>
                <a:tab algn="l" pos="28728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spcBef>
                <a:spcPts val="3300"/>
              </a:spcBef>
              <a:tabLst>
                <a:tab algn="l" pos="0"/>
                <a:tab algn="l" pos="28728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Make formulae readable by putting spaces in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spcBef>
                <a:spcPts val="3300"/>
              </a:spcBef>
              <a:tabLst>
                <a:tab algn="l" pos="0"/>
                <a:tab algn="l" pos="28728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=  Sheet!A5  *  (B5 + B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spcBef>
                <a:spcPts val="3300"/>
              </a:spcBef>
              <a:tabLst>
                <a:tab algn="l" pos="0"/>
                <a:tab algn="l" pos="28728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spcBef>
                <a:spcPts val="3300"/>
              </a:spcBef>
              <a:tabLst>
                <a:tab algn="l" pos="0"/>
                <a:tab algn="l" pos="28728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How could anyone object to tha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7F55-7A3B-4701-98FA-332E79C1AB2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2d8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Stone Sans"/>
              </a:rPr>
              <a:t>OPERATORS</a:t>
            </a:r>
            <a:endParaRPr b="0" lang="en-US" sz="4400" spc="-1" strike="noStrike">
              <a:solidFill>
                <a:srgbClr val="ffffff"/>
              </a:solidFill>
              <a:latin typeface="Stone Sans"/>
            </a:endParaRPr>
          </a:p>
        </p:txBody>
      </p:sp>
      <p:sp>
        <p:nvSpPr>
          <p:cNvPr id="236" name=""/>
          <p:cNvSpPr/>
          <p:nvPr/>
        </p:nvSpPr>
        <p:spPr>
          <a:xfrm>
            <a:off x="5943600" y="1523880"/>
            <a:ext cx="2743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ts val="2200"/>
              </a:lnSpc>
              <a:spcBef>
                <a:spcPts val="3300"/>
              </a:spcBef>
              <a:tabLst>
                <a:tab algn="l" pos="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Stone Sans"/>
              </a:rPr>
              <a:t>LESS OB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spcBef>
                <a:spcPts val="3300"/>
              </a:spcBef>
              <a:tabLst>
                <a:tab algn="l" pos="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Range operat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spcBef>
                <a:spcPts val="3300"/>
              </a:spcBef>
              <a:tabLst>
                <a:tab algn="l" pos="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Between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spcBef>
                <a:spcPts val="3300"/>
              </a:spcBef>
              <a:tabLst>
                <a:tab algn="l" pos="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Union 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spcBef>
                <a:spcPts val="3300"/>
              </a:spcBef>
              <a:tabLst>
                <a:tab algn="l" pos="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Intersection 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spcBef>
                <a:spcPts val="2200"/>
              </a:spcBef>
              <a:tabLst>
                <a:tab algn="l" pos="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25146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ts val="2200"/>
              </a:lnSpc>
              <a:spcBef>
                <a:spcPts val="3300"/>
              </a:spcBef>
              <a:tabLst>
                <a:tab algn="l" pos="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Stone Sans"/>
              </a:rPr>
              <a:t>OB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spcBef>
                <a:spcPts val="3300"/>
              </a:spcBef>
              <a:tabLst>
                <a:tab algn="l" pos="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+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spcBef>
                <a:spcPts val="3300"/>
              </a:spcBef>
              <a:tabLst>
                <a:tab algn="l" pos="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spcBef>
                <a:spcPts val="3300"/>
              </a:spcBef>
              <a:tabLst>
                <a:tab algn="l" pos="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spcBef>
                <a:spcPts val="3300"/>
              </a:spcBef>
              <a:tabLst>
                <a:tab algn="l" pos="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spcBef>
                <a:spcPts val="3300"/>
              </a:spcBef>
              <a:tabLst>
                <a:tab algn="l" pos="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086280" y="1523880"/>
            <a:ext cx="2743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ts val="2200"/>
              </a:lnSpc>
              <a:spcBef>
                <a:spcPts val="3300"/>
              </a:spcBef>
              <a:tabLst>
                <a:tab algn="l" pos="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Stone Sans"/>
              </a:rPr>
              <a:t>INTERMEDI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spcBef>
                <a:spcPts val="3300"/>
              </a:spcBef>
              <a:tabLst>
                <a:tab algn="l" pos="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spcBef>
                <a:spcPts val="3300"/>
              </a:spcBef>
              <a:tabLst>
                <a:tab algn="l" pos="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^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spcBef>
                <a:spcPts val="3300"/>
              </a:spcBef>
              <a:tabLst>
                <a:tab algn="l" pos="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spcBef>
                <a:spcPts val="2200"/>
              </a:spcBef>
              <a:tabLst>
                <a:tab algn="l" pos="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143000" y="5410080"/>
            <a:ext cx="6858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ts val="2200"/>
              </a:lnSpc>
              <a:spcBef>
                <a:spcPts val="3300"/>
              </a:spcBef>
              <a:tabLst>
                <a:tab algn="l" pos="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Do you add spurious operators to your formula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CFA9-FEC9-4C54-ACE6-8C6E8E81090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2d8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Stone Sans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Stone Sans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612720" y="1257480"/>
          <a:ext cx="8099640" cy="758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2720" y="1257480"/>
                    <a:ext cx="8099640" cy="75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228600" y="236232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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" y="624852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B25E-F7E9-4DFA-AC6E-1231CC53328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2d8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Stone Sans"/>
              </a:rPr>
              <a:t>SIZE DRIVES STRUCTURE</a:t>
            </a:r>
            <a:endParaRPr b="0" lang="en-US" sz="4400" spc="-1" strike="noStrike">
              <a:solidFill>
                <a:srgbClr val="ffffff"/>
              </a:solidFill>
              <a:latin typeface="Stone Sans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-428760" y="1247760"/>
            <a:ext cx="9572760" cy="5610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46BB-E5CE-4807-B597-28C6F0F665C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2d8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Stone Sans"/>
              </a:rPr>
              <a:t>GOOD PRACTICE</a:t>
            </a:r>
            <a:endParaRPr b="0" lang="en-US" sz="4400" spc="-1" strike="noStrike">
              <a:solidFill>
                <a:srgbClr val="ffffff"/>
              </a:solidFill>
              <a:latin typeface="Stone Sans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" y="1371600"/>
            <a:ext cx="8534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lnSpc>
                <a:spcPts val="2200"/>
              </a:lnSpc>
              <a:spcBef>
                <a:spcPts val="3300"/>
              </a:spcBef>
              <a:tabLst>
                <a:tab algn="l" pos="0"/>
                <a:tab algn="l" pos="28728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Is there any at all that is not domain-specific?  Mayb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Bef>
                <a:spcPts val="2200"/>
              </a:spcBef>
              <a:tabLst>
                <a:tab algn="l" pos="0"/>
                <a:tab algn="l" pos="28728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1</a:t>
            </a: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Keep it simple: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Avoid overmodelling, or modelling beyond the resolution of your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Bef>
                <a:spcPts val="2200"/>
              </a:spcBef>
              <a:tabLst>
                <a:tab algn="l" pos="0"/>
                <a:tab algn="l" pos="28728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Have an idea of how you will know the finished article when you se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Bef>
                <a:spcPts val="2200"/>
              </a:spcBef>
              <a:tabLst>
                <a:tab algn="l" pos="0"/>
                <a:tab algn="l" pos="28728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3</a:t>
            </a: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Avoid long formul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Bef>
                <a:spcPts val="2200"/>
              </a:spcBef>
              <a:tabLst>
                <a:tab algn="l" pos="0"/>
                <a:tab algn="l" pos="28728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4</a:t>
            </a: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Where you can, double (or triple..) check results by calculating them </a:t>
            </a: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different way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Bef>
                <a:spcPts val="2200"/>
              </a:spcBef>
              <a:tabLst>
                <a:tab algn="l" pos="0"/>
                <a:tab algn="l" pos="28728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5</a:t>
            </a: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Don't use the OFFSET or INDIRECT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Bef>
                <a:spcPts val="2200"/>
              </a:spcBef>
              <a:tabLst>
                <a:tab algn="l" pos="0"/>
                <a:tab algn="l" pos="28728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6</a:t>
            </a: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Do not introduce circular logic into a spreadsheet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Stone Sans"/>
              </a:rPr>
              <a:t>(Unless you can explain in sophisticated mathematical terms the function </a:t>
            </a: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Stone San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Stone Sans"/>
              </a:rPr>
              <a:t>that </a:t>
            </a:r>
            <a:r>
              <a:rPr b="0" lang="en-GB" sz="1600" spc="-1" strike="noStrike">
                <a:solidFill>
                  <a:srgbClr val="ffffff"/>
                </a:solidFill>
                <a:latin typeface="Stone San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Stone Sans"/>
              </a:rPr>
              <a:t>describes how the results of the spreadsheet are linked to its inputs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9415-80E9-4368-BF62-5910FB78146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2d8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Stone Sans"/>
              </a:rPr>
              <a:t>ANYTHING NEW?</a:t>
            </a:r>
            <a:endParaRPr b="0" lang="en-US" sz="4400" spc="-1" strike="noStrike">
              <a:solidFill>
                <a:srgbClr val="ffffff"/>
              </a:solidFill>
              <a:latin typeface="Stone Sans"/>
            </a:endParaRPr>
          </a:p>
        </p:txBody>
      </p:sp>
      <p:pic>
        <p:nvPicPr>
          <p:cNvPr id="250" name="Diversity" descr=""/>
          <p:cNvPicPr/>
          <p:nvPr/>
        </p:nvPicPr>
        <p:blipFill>
          <a:blip r:embed="rId1"/>
          <a:srcRect l="30080" t="9186" r="26807" b="57979"/>
          <a:stretch/>
        </p:blipFill>
        <p:spPr>
          <a:xfrm>
            <a:off x="3352680" y="2286000"/>
            <a:ext cx="5031000" cy="3814920"/>
          </a:xfrm>
          <a:prstGeom prst="rect">
            <a:avLst/>
          </a:prstGeom>
          <a:ln w="0">
            <a:noFill/>
          </a:ln>
        </p:spPr>
      </p:pic>
      <p:pic>
        <p:nvPicPr>
          <p:cNvPr id="251" name="Spreadsheet%20Eng" descr=""/>
          <p:cNvPicPr/>
          <p:nvPr/>
        </p:nvPicPr>
        <p:blipFill>
          <a:blip r:embed="rId2"/>
          <a:srcRect l="29086" t="21104" r="27776" b="46062"/>
          <a:stretch/>
        </p:blipFill>
        <p:spPr>
          <a:xfrm>
            <a:off x="457200" y="1600200"/>
            <a:ext cx="2514600" cy="190512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609480" y="358128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Eusprig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8EDC-76D3-427B-9703-0F4F71FDD16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2d8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Stone Sans"/>
              </a:rPr>
              <a:t>CASH FLOW LENDING</a:t>
            </a:r>
            <a:endParaRPr b="0" lang="en-US" sz="4400" spc="-1" strike="noStrike">
              <a:solidFill>
                <a:srgbClr val="ffffff"/>
              </a:solidFill>
              <a:latin typeface="Stone Sans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905120"/>
            <a:ext cx="3962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ts val="2200"/>
              </a:lnSpc>
              <a:spcBef>
                <a:spcPts val="3300"/>
              </a:spcBef>
              <a:tabLst>
                <a:tab algn="l" pos="0"/>
                <a:tab algn="dec" pos="3235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BALANCE SHEET</a:t>
            </a: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£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Bef>
                <a:spcPts val="3300"/>
              </a:spcBef>
              <a:tabLst>
                <a:tab algn="l" pos="0"/>
                <a:tab algn="dec" pos="3235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Buildings</a:t>
            </a: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0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Other</a:t>
            </a: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0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Bank debt</a:t>
            </a: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0 </a:t>
            </a: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	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Other</a:t>
            </a: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Bef>
                <a:spcPts val="3300"/>
              </a:spcBef>
              <a:tabLst>
                <a:tab algn="l" pos="0"/>
                <a:tab algn="dec" pos="3235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Shareholders’ funds</a:t>
            </a: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2514600"/>
            <a:ext cx="198108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Inves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3505320"/>
            <a:ext cx="198108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S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7" idx="2"/>
            <a:endCxn id="58" idx="0"/>
          </p:cNvCxnSpPr>
          <p:nvPr/>
        </p:nvCxnSpPr>
        <p:spPr>
          <a:xfrm>
            <a:off x="1447920" y="2920680"/>
            <a:ext cx="1219680" cy="585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90920" y="2514600"/>
            <a:ext cx="198108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Ba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60" idx="2"/>
            <a:endCxn id="58" idx="0"/>
          </p:cNvCxnSpPr>
          <p:nvPr/>
        </p:nvCxnSpPr>
        <p:spPr>
          <a:xfrm flipH="1">
            <a:off x="2666520" y="2920680"/>
            <a:ext cx="915120" cy="585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7" idx="2"/>
          </p:cNvCxnSpPr>
          <p:nvPr/>
        </p:nvCxnSpPr>
        <p:spPr>
          <a:xfrm flipH="1">
            <a:off x="1142280" y="2921040"/>
            <a:ext cx="305640" cy="203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7" idx="2"/>
          </p:cNvCxnSpPr>
          <p:nvPr/>
        </p:nvCxnSpPr>
        <p:spPr>
          <a:xfrm flipH="1">
            <a:off x="1294920" y="2921040"/>
            <a:ext cx="153360" cy="280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7" idx="2"/>
          </p:cNvCxnSpPr>
          <p:nvPr/>
        </p:nvCxnSpPr>
        <p:spPr>
          <a:xfrm>
            <a:off x="1447560" y="2921040"/>
            <a:ext cx="76680" cy="280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5" name=""/>
          <p:cNvCxnSpPr/>
          <p:nvPr/>
        </p:nvCxnSpPr>
        <p:spPr>
          <a:xfrm flipH="1">
            <a:off x="3428280" y="2895480"/>
            <a:ext cx="153000" cy="280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6" name=""/>
          <p:cNvCxnSpPr/>
          <p:nvPr/>
        </p:nvCxnSpPr>
        <p:spPr>
          <a:xfrm>
            <a:off x="3581280" y="2895480"/>
            <a:ext cx="76680" cy="280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7" name=""/>
          <p:cNvCxnSpPr/>
          <p:nvPr/>
        </p:nvCxnSpPr>
        <p:spPr>
          <a:xfrm>
            <a:off x="3580920" y="2895480"/>
            <a:ext cx="229320" cy="153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5029200" y="4724280"/>
            <a:ext cx="3352680" cy="1295640"/>
          </a:xfrm>
          <a:prstGeom prst="upArrowCallout">
            <a:avLst>
              <a:gd name="adj1" fmla="val 64697"/>
              <a:gd name="adj2" fmla="val 64692"/>
              <a:gd name="adj3" fmla="val 16667"/>
              <a:gd name="adj4" fmla="val 6666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Stone Sans"/>
              </a:rPr>
              <a:t>Useless guide </a:t>
            </a:r>
            <a:br>
              <a:rPr sz="2000"/>
            </a:br>
            <a:r>
              <a:rPr b="0" lang="en-GB" sz="2000" spc="-1" strike="noStrike">
                <a:solidFill>
                  <a:srgbClr val="ff9900"/>
                </a:solidFill>
                <a:latin typeface="Stone Sans"/>
              </a:rPr>
              <a:t>as to whether to l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1839-9E12-4E11-ACFA-FDACC4CE7D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2d8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33520" y="2209680"/>
            <a:ext cx="6933960" cy="990720"/>
          </a:xfrm>
          <a:prstGeom prst="rightArrow">
            <a:avLst>
              <a:gd name="adj1" fmla="val 46296"/>
              <a:gd name="adj2" fmla="val 84116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Stone Sans"/>
              </a:rPr>
              <a:t>GROWTH</a:t>
            </a:r>
            <a:endParaRPr b="0" lang="en-US" sz="4400" spc="-1" strike="noStrike">
              <a:solidFill>
                <a:srgbClr val="ffffff"/>
              </a:solidFill>
              <a:latin typeface="Stone Sans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762120" y="3156120"/>
            <a:ext cx="7608240" cy="3476520"/>
            <a:chOff x="762120" y="3156120"/>
            <a:chExt cx="7608240" cy="3476520"/>
          </a:xfrm>
        </p:grpSpPr>
        <p:sp>
          <p:nvSpPr>
            <p:cNvPr id="72" name=""/>
            <p:cNvSpPr/>
            <p:nvPr/>
          </p:nvSpPr>
          <p:spPr>
            <a:xfrm>
              <a:off x="6756840" y="3429000"/>
              <a:ext cx="137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Stone Sans"/>
                </a:rPr>
                <a:t>Modell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751080" y="3902040"/>
              <a:ext cx="1172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Stone Sans"/>
                </a:rPr>
                <a:t>Train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765840" y="4511520"/>
              <a:ext cx="81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Stone Sans"/>
                </a:rPr>
                <a:t>Aud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725160" y="5502240"/>
              <a:ext cx="1645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Stone Sans"/>
                </a:rPr>
                <a:t>PFI Adviso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6" name="" descr=""/>
            <p:cNvPicPr/>
            <p:nvPr/>
          </p:nvPicPr>
          <p:blipFill>
            <a:blip r:embed="rId1"/>
            <a:stretch/>
          </p:blipFill>
          <p:spPr>
            <a:xfrm>
              <a:off x="762120" y="3156120"/>
              <a:ext cx="6048360" cy="3476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" name=""/>
          <p:cNvSpPr/>
          <p:nvPr/>
        </p:nvSpPr>
        <p:spPr>
          <a:xfrm>
            <a:off x="1518840" y="25146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19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12520" y="25146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19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506560" y="25146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6760" y="1523880"/>
            <a:ext cx="152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Oil and gas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M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86600" y="1523880"/>
            <a:ext cx="122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Utilities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944600" y="1523880"/>
            <a:ext cx="64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PFI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PP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3E0C-0F38-4E3B-BDCD-E3145DC2C0C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2d8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Stone Sans"/>
              </a:rPr>
              <a:t>DESIGN OUTPUT FIRST</a:t>
            </a:r>
            <a:endParaRPr b="0" lang="en-US" sz="4400" spc="-1" strike="noStrike">
              <a:solidFill>
                <a:srgbClr val="ffffff"/>
              </a:solidFill>
              <a:latin typeface="Stone Sans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1752480"/>
            <a:ext cx="3962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ts val="2200"/>
              </a:lnSpc>
              <a:spcBef>
                <a:spcPts val="3300"/>
              </a:spcBef>
              <a:tabLst>
                <a:tab algn="l" pos="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Stone Sans"/>
              </a:rPr>
              <a:t>H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Bef>
                <a:spcPts val="2200"/>
              </a:spcBef>
              <a:tabLst>
                <a:tab algn="l" pos="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Mock up schedules to be generated by the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Bef>
                <a:spcPts val="2200"/>
              </a:spcBef>
              <a:tabLst>
                <a:tab algn="l" pos="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Page setup; titles; spa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Bef>
                <a:spcPts val="2200"/>
              </a:spcBef>
              <a:tabLst>
                <a:tab algn="l" pos="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Headings, but no nu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Bef>
                <a:spcPts val="3300"/>
              </a:spcBef>
              <a:tabLst>
                <a:tab algn="l" pos="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0" y="1828800"/>
            <a:ext cx="3962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ts val="2200"/>
              </a:lnSpc>
              <a:spcBef>
                <a:spcPts val="3300"/>
              </a:spcBef>
              <a:tabLst>
                <a:tab algn="l" pos="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Stone Sans"/>
              </a:rPr>
              <a:t>W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Bef>
                <a:spcPts val="2200"/>
              </a:spcBef>
              <a:tabLst>
                <a:tab algn="l" pos="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Can share with colleagues / manager right a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Bef>
                <a:spcPts val="2200"/>
              </a:spcBef>
              <a:tabLst>
                <a:tab algn="l" pos="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Acts as informal specific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Bef>
                <a:spcPts val="2200"/>
              </a:spcBef>
              <a:tabLst>
                <a:tab algn="l" pos="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Visible evidence of prog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Bef>
                <a:spcPts val="2200"/>
              </a:spcBef>
              <a:tabLst>
                <a:tab algn="l" pos="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Can print model neatly at any (unexpected) point in its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Bef>
                <a:spcPts val="2200"/>
              </a:spcBef>
              <a:tabLst>
                <a:tab algn="l" pos="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19320" y="5384880"/>
            <a:ext cx="137160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Output: e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5029200"/>
            <a:ext cx="1371600" cy="703800"/>
          </a:xfrm>
          <a:prstGeom prst="rect">
            <a:avLst/>
          </a:prstGeom>
          <a:solidFill>
            <a:srgbClr val="2d2d8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Output: Cash f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4686480"/>
            <a:ext cx="1371600" cy="703800"/>
          </a:xfrm>
          <a:prstGeom prst="rect">
            <a:avLst/>
          </a:prstGeom>
          <a:solidFill>
            <a:srgbClr val="2d2d8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Output: P&amp;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4343400"/>
            <a:ext cx="1371600" cy="703800"/>
          </a:xfrm>
          <a:prstGeom prst="rect">
            <a:avLst/>
          </a:prstGeom>
          <a:solidFill>
            <a:srgbClr val="2d2d8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Outputs: 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AF6D-7915-4097-BFFA-3C9620444E9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12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Stone Sans"/>
              </a:rPr>
              <a:t>BUT...</a:t>
            </a:r>
            <a:endParaRPr b="0" lang="en-US" sz="4400" spc="-1" strike="noStrike">
              <a:solidFill>
                <a:srgbClr val="ffffff"/>
              </a:solidFill>
              <a:latin typeface="Stone Sans"/>
            </a:endParaRPr>
          </a:p>
        </p:txBody>
      </p:sp>
      <p:sp>
        <p:nvSpPr>
          <p:cNvPr id="91" name=""/>
          <p:cNvSpPr/>
          <p:nvPr/>
        </p:nvSpPr>
        <p:spPr>
          <a:xfrm>
            <a:off x="1104840" y="1676520"/>
            <a:ext cx="6934320" cy="990360"/>
          </a:xfrm>
          <a:prstGeom prst="leftRightArrow">
            <a:avLst>
              <a:gd name="adj1" fmla="val 50000"/>
              <a:gd name="adj2" fmla="val 83341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971800"/>
            <a:ext cx="22096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ts val="2200"/>
              </a:lnSpc>
              <a:spcBef>
                <a:spcPts val="3300"/>
              </a:spcBef>
              <a:tabLst>
                <a:tab algn="l" pos="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Stone Sans"/>
              </a:rPr>
              <a:t>SCIENTIST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Stone Sans"/>
              </a:rPr>
              <a:t>RESEARC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spcBef>
                <a:spcPts val="3300"/>
              </a:spcBef>
              <a:tabLst>
                <a:tab algn="l" pos="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No idea of answer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until they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find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72200" y="2971800"/>
            <a:ext cx="22096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ts val="2200"/>
              </a:lnSpc>
              <a:spcBef>
                <a:spcPts val="3300"/>
              </a:spcBef>
              <a:tabLst>
                <a:tab algn="l" pos="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Stone Sans"/>
              </a:rPr>
              <a:t>SAFETY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Stone Sans"/>
              </a:rPr>
              <a:t>CRI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spcBef>
                <a:spcPts val="3300"/>
              </a:spcBef>
              <a:tabLst>
                <a:tab algn="l" pos="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Need formal specification and test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971800"/>
            <a:ext cx="22096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lnSpc>
                <a:spcPts val="2200"/>
              </a:lnSpc>
              <a:spcBef>
                <a:spcPts val="3300"/>
              </a:spcBef>
              <a:tabLst>
                <a:tab algn="l" pos="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Stone Sans"/>
              </a:rPr>
              <a:t>PROJECT FIN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spcBef>
                <a:spcPts val="3300"/>
              </a:spcBef>
              <a:tabLst>
                <a:tab algn="l" pos="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Standard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financial stat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spcBef>
                <a:spcPts val="3300"/>
              </a:spcBef>
              <a:tabLst>
                <a:tab algn="l" pos="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Each model looks quite like its predeces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1981080"/>
            <a:ext cx="2209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ts val="2200"/>
              </a:lnSpc>
              <a:spcBef>
                <a:spcPts val="3300"/>
              </a:spcBef>
              <a:tabLst>
                <a:tab algn="l" pos="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NOT ENOU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1981080"/>
            <a:ext cx="22100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ts val="2200"/>
              </a:lnSpc>
              <a:spcBef>
                <a:spcPts val="3300"/>
              </a:spcBef>
              <a:tabLst>
                <a:tab algn="l" pos="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TOO MU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621C-7F92-425C-9B95-FD66146B273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2d8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Stone Sans"/>
              </a:rPr>
              <a:t>LONG FORMULA</a:t>
            </a:r>
            <a:endParaRPr b="0" lang="en-US" sz="4400" spc="-1" strike="noStrike">
              <a:solidFill>
                <a:srgbClr val="ffffff"/>
              </a:solidFill>
              <a:latin typeface="Stone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=IF(OR(COLUMN()=Input!$B$272+1, COLUMN()=Input!$B$272+2), 0, IF(Input!$B$23&gt;0, -MAX(0, MIN(-OFFSET($A$497:$BR$497, 0, COLUMN()-2, 1, 1)-OFFSET($A$497:$BR$497, 0, COLUMN()-1, 1, 1), MAX(SUM(OFFSET($A$497:$BR$497, 0, COLUMN()-3, 1, 1):OFFSET($A$497:$BR$497, 0, COLUMN()-4, 1, 1)), (Input!$B$23 &gt;=2)*SUM(OFFSET($A$497:$BR$497, 0, COLUMN()-3, 1, 1):OFFSET($A$497:$BR$497, 0, COLUMN()-6, 1, 1)), (Input!$B$23 &gt;=3)*SUM(OFFSET(($A$497:$BR$497, 0, COLUMN()-3, 1, 1):OFFSET(($A$497:$BR$497, 0, COLUMN()-7, 1, 1))))), 0))</a:t>
            </a:r>
            <a:endParaRPr b="0" lang="en-US" sz="2000" spc="-1" strike="noStrike">
              <a:solidFill>
                <a:srgbClr val="ffffff"/>
              </a:solidFill>
              <a:latin typeface="Stone Sans"/>
            </a:endParaRPr>
          </a:p>
          <a:p>
            <a:pPr indent="0">
              <a:lnSpc>
                <a:spcPts val="2200"/>
              </a:lnSpc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Complexity score: 60</a:t>
            </a:r>
            <a:endParaRPr b="0" lang="en-US" sz="2000" spc="-1" strike="noStrike">
              <a:solidFill>
                <a:srgbClr val="ffffff"/>
              </a:solidFill>
              <a:latin typeface="Stone Sans"/>
            </a:endParaRPr>
          </a:p>
          <a:p>
            <a:pPr indent="0">
              <a:lnSpc>
                <a:spcPts val="2200"/>
              </a:lnSpc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Stone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9AB0-D50F-4AD1-87C1-CC07F025569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2d8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791320" y="4165560"/>
            <a:ext cx="137160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Output: e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638680" y="3809880"/>
            <a:ext cx="1371600" cy="703800"/>
          </a:xfrm>
          <a:prstGeom prst="rect">
            <a:avLst/>
          </a:prstGeom>
          <a:solidFill>
            <a:srgbClr val="2d2d8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Output: Cash f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Stone Sans"/>
              </a:rPr>
              <a:t>SEPARATE WORKINGS</a:t>
            </a:r>
            <a:endParaRPr b="0" lang="en-US" sz="4400" spc="-1" strike="noStrike">
              <a:solidFill>
                <a:srgbClr val="ffffff"/>
              </a:solidFill>
              <a:latin typeface="Stone Sans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1523880"/>
            <a:ext cx="3962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ts val="2200"/>
              </a:lnSpc>
              <a:spcBef>
                <a:spcPts val="3300"/>
              </a:spcBef>
              <a:tabLst>
                <a:tab algn="l" pos="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Stone Sans"/>
              </a:rPr>
              <a:t>REAS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Bef>
                <a:spcPts val="2200"/>
              </a:spcBef>
              <a:tabLst>
                <a:tab algn="l" pos="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Long formulae are b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Bef>
                <a:spcPts val="2200"/>
              </a:spcBef>
              <a:tabLst>
                <a:tab algn="l" pos="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We must break them 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Bef>
                <a:spcPts val="2200"/>
              </a:spcBef>
              <a:tabLst>
                <a:tab algn="l" pos="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But, intermediate results will clutter up outpu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Bef>
                <a:spcPts val="2200"/>
              </a:spcBef>
              <a:tabLst>
                <a:tab algn="l" pos="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Conclusion: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Separate the intermediate results from the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Bef>
                <a:spcPts val="2200"/>
              </a:spcBef>
              <a:tabLst>
                <a:tab algn="l" pos="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76920" y="1523880"/>
            <a:ext cx="3962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ts val="2200"/>
              </a:lnSpc>
              <a:spcBef>
                <a:spcPts val="3300"/>
              </a:spcBef>
              <a:tabLst>
                <a:tab algn="l" pos="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Stone Sans"/>
              </a:rPr>
              <a:t>RESULT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Bef>
                <a:spcPts val="3300"/>
              </a:spcBef>
              <a:tabLst>
                <a:tab algn="l" pos="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Bef>
                <a:spcPts val="3300"/>
              </a:spcBef>
              <a:tabLst>
                <a:tab algn="l" pos="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Bef>
                <a:spcPts val="3300"/>
              </a:spcBef>
              <a:tabLst>
                <a:tab algn="l" pos="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Bef>
                <a:spcPts val="3300"/>
              </a:spcBef>
              <a:tabLst>
                <a:tab algn="l" pos="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Bef>
                <a:spcPts val="3300"/>
              </a:spcBef>
              <a:tabLst>
                <a:tab algn="l" pos="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Stone Sans"/>
              </a:rPr>
              <a:t>BY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Bef>
                <a:spcPts val="2200"/>
              </a:spcBef>
              <a:tabLst>
                <a:tab algn="l" pos="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Related items next to each 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257800" y="2057400"/>
            <a:ext cx="137160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Work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10080" y="3390840"/>
            <a:ext cx="1371600" cy="703800"/>
          </a:xfrm>
          <a:prstGeom prst="rect">
            <a:avLst/>
          </a:prstGeom>
          <a:solidFill>
            <a:srgbClr val="2d2d8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Output: P&amp;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57800" y="3048120"/>
            <a:ext cx="1371600" cy="703800"/>
          </a:xfrm>
          <a:prstGeom prst="rect">
            <a:avLst/>
          </a:prstGeom>
          <a:solidFill>
            <a:srgbClr val="2d2d8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Outputs: 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104" idx="2"/>
            <a:endCxn id="106" idx="0"/>
          </p:cNvCxnSpPr>
          <p:nvPr/>
        </p:nvCxnSpPr>
        <p:spPr>
          <a:xfrm>
            <a:off x="5943240" y="2463480"/>
            <a:ext cx="1080" cy="585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12D1-D72D-4DBB-8101-022122A8D5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2d8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Stone Sans"/>
              </a:rPr>
              <a:t>SCENARIO MANAGEMENT</a:t>
            </a:r>
            <a:endParaRPr b="0" lang="en-US" sz="4400" spc="-1" strike="noStrike">
              <a:solidFill>
                <a:srgbClr val="ffffff"/>
              </a:solidFill>
              <a:latin typeface="Stone Sans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1676520"/>
            <a:ext cx="3962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ts val="2200"/>
              </a:lnSpc>
              <a:spcBef>
                <a:spcPts val="3300"/>
              </a:spcBef>
              <a:tabLst>
                <a:tab algn="l" pos="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ONE WORKBOOK PER SCEN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Bef>
                <a:spcPts val="3300"/>
              </a:spcBef>
              <a:tabLst>
                <a:tab algn="l" pos="0"/>
                <a:tab algn="dec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2717640"/>
            <a:ext cx="2590920" cy="13262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Base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92240" y="3098880"/>
            <a:ext cx="2590920" cy="13262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Low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46040" y="3479760"/>
            <a:ext cx="2590920" cy="13262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High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00200" y="3860640"/>
            <a:ext cx="2590920" cy="13262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tone Sans"/>
              </a:rPr>
              <a:t>Disaster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612800" y="4470480"/>
            <a:ext cx="990720" cy="457200"/>
            <a:chOff x="1612800" y="4470480"/>
            <a:chExt cx="990720" cy="457200"/>
          </a:xfrm>
        </p:grpSpPr>
        <p:sp>
          <p:nvSpPr>
            <p:cNvPr id="115" name=""/>
            <p:cNvSpPr/>
            <p:nvPr/>
          </p:nvSpPr>
          <p:spPr>
            <a:xfrm>
              <a:off x="1612800" y="4699080"/>
              <a:ext cx="30492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612800" y="4470480"/>
              <a:ext cx="9907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069C-4E01-434F-A9EA-74BE8C7498D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3T11:19:36Z</dcterms:created>
  <dc:creator>David Colver</dc:creator>
  <dc:description/>
  <dc:language>en-US</dc:language>
  <cp:lastModifiedBy>David Colver</cp:lastModifiedBy>
  <cp:lastPrinted>2000-10-23T18:22:31Z</cp:lastPrinted>
  <dcterms:modified xsi:type="dcterms:W3CDTF">2004-07-13T16:26:58Z</dcterms:modified>
  <cp:revision>72</cp:revision>
  <dc:subject/>
  <dc:title>No Slide Title</dc:title>
</cp:coreProperties>
</file>